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540-8E8C-488F-B70B-6381CF5C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ECF-F439-45A6-AC43-516B7BA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EC46C-E989-4485-A7EE-F1585F31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CFF2E-E74C-494C-8477-605CA669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7E4C1-32C7-4241-A7A4-A13DCD9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125F-1075-494D-82D5-BD085EC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73ABC-4386-46B4-BB3C-9533ED3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BA05-4D9B-4C98-8551-75A9936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D3B4-64DD-4BE3-BA1A-4ADB372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39F1-7699-4E81-AFA3-1449F046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EC39-B4B7-4CB7-A27A-4804B0B1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8A81C-557F-4F43-A9FF-27DFEE69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DDD-C1BB-49A6-8A5E-49F5665C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0A15-7EFA-4D53-BAFD-BA958F7E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59A5F-CB72-4CCB-A3AC-280AD092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6BC28-D821-4960-B0DF-0BA26D58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EA513-A849-437F-A713-0AE8B20C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EA301-B9A6-486E-98E8-F36371A0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E6A70-4062-4280-A479-6A69021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AA0D-8BD5-44FA-B634-B82972A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BADB7-A290-4710-934E-6DFE8EA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0676D-AB03-4D0A-9971-F9864F7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A44D3-8FA2-4CFE-9529-FEB8FEE2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70C-C8C9-4ABB-B73F-278836E6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DF1C8-B1DC-41EA-8492-9F22A55D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9DA55-95F7-42E0-ACC7-7F6206C6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BF49F-072F-42CF-80D1-6AA9BE07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C919-79F8-4921-A309-EFFADC71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1AB3C-E0C8-4345-A4BA-630696F2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2D5C6-C74B-42C7-8E43-5ACF31DD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3C18D-A49C-4D9A-82EE-91584395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1874D-D77F-499D-9420-9F90CB5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B262-F533-4ED0-918E-E814EA7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A6AE-D998-4DDE-A318-B159F6A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E69-463F-42F5-9A6D-D236F4D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3A99-5B5B-4CD1-A63C-547A71F8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C43D6-12F9-45C5-9148-066C0F9E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69C02-D2E6-4E3E-B7E4-85F16F29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F1FFA-48FC-4850-95A5-D810791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B37B5-65DA-4238-82B4-CF64C10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9A22E-6CD5-4A8E-BF14-3E426EA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68820-E600-4E79-89E9-4821E74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E37D2-9D9A-4F52-87C1-36DCB1B5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C0AD-5BC6-4427-93A7-B0A0E3C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1DF3D-D3EC-46EB-B208-89C9B7D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35A4-FD85-401C-B2A3-D6E37B0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ED005-F868-437A-952B-33A0C14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E568-CAAC-4A37-8F6A-526F929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BB52C-CA7C-4B53-8EE4-D99DF848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2A484-0C3E-4C8C-B47A-632D981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36781-5949-474B-8812-A0D639F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A46BA-10EB-4734-8353-75111BCC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D7CB5-4362-44A9-B881-471D0FF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EA6BE-5D66-4D1A-AB01-0DBFF58C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6B74F-BD2C-4B34-8F4C-546CF77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D082D-129F-4F30-9594-12F946D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079-7692-41B0-B22C-72B593A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47E6A-AB42-4B44-BC02-2DFF3CA4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9C212-1EF5-413F-948C-ED512B3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D71A9-6E58-4367-95C5-513D188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DCF7C-B7DE-4A5A-9A48-C56528B7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633A4-A6CA-41D3-B602-6967CA15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47639-5E50-4DBF-8B64-C273F1F0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140F6-AD9F-4F83-A97C-97962588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9AF26-875E-4684-963A-1506C4AD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9D036-40CF-473F-A926-143C1A36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8875E-4FF7-4A4F-B910-7C961D57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B16-5C60-4327-98FA-C61D3E7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5478A-7694-4BB7-824D-776E86E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931AE-A581-4D4F-AA2C-BC1FB3B0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54A0C-0CD8-4E84-A4CA-947244EC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32865-D7E5-4203-963C-3A69495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7E175-2780-4FA8-9F50-DB62A8B8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83462-6F55-4EB9-8118-C522557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C726E-3CA2-456E-834E-14151ED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B2A3A-FFE6-41B1-9F2E-0AF00406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FAA53-D9A5-42E9-BA07-CF1174B0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0252A-1038-41C1-A44C-21CB3152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3788-9031-4318-BD11-10F61C0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F520C-8E17-4BE7-A87C-E90B63BE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483B5-D24F-46F6-BDB3-8DD4995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C8A1D-2C10-410B-9A55-1681D49B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36DF4-1155-40B5-8788-7B176CA6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63C9C-99FB-4F8D-85BC-CCD9175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F93CB-2833-426E-884F-F2E66FA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AAA64-CB80-4EB7-B17F-7D944298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A2A87-5068-43F5-B290-C89F814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429E0-62BB-4006-BD02-81D5968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B50C1-6106-4C89-B73B-0C6EC2A5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AEAB-FC10-45EB-BC3E-7CBA7EFA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598A6-93F0-4A13-8E25-F583A6C3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82A21-F4E4-4064-89E4-9B26632F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0E95A-2317-4A4E-9A2A-FCBAEB7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D4DFC-A9B8-4CD6-A6EB-1EE51FC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9D136-79EB-4FEF-8EC6-22895619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466E5-1C84-4AB9-9A5C-6CE36909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E1D6B-C293-4921-BAF4-37B3DCA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0A863-F4F9-42C7-8824-67503B3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A7A82-1C76-4B01-AB6D-C8C25DB4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A6625-E324-472F-B544-A94DFAF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0EA4-442F-4905-85FD-E0E09B0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9FBB7-23A1-4946-8BA5-E26F38D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A875A-E0C1-4FEE-8914-09A3A969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788B6-3869-4BD2-A69D-8D51C3EE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E1E9F-25DC-4A7B-83A4-5D32D5FD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A9A0A-3CAB-440D-8F7E-216BB32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99194-CA32-4EC6-94FC-42C81CE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22EEA-47F4-48D5-B6FE-D7F05C0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E304F-033B-4E4A-A275-017AD7AE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7E7AF-21CD-4C5C-815C-E52D3C61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34015-A1D9-4884-9CB7-0CC82A8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0FE-BF1C-43F9-8B22-4B7646BC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9A04-6490-4D55-BEC7-A947FFF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785AC-1E1F-4107-BEC5-2AF195F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A35BE-79AD-4F37-8339-44B6663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21184-E9D3-402C-BCF0-FF370741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68BC9-06F6-40D3-9B83-F96E704A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8B6D3-AA32-4CDA-8891-FACD3B48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B008E-C6A4-49AE-9F4D-6C70769B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6A069-FE69-470C-94A4-254DD508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9E133-3248-4B03-AE37-3A23F26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56983-5CCD-428A-9AEA-126D6472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9D428-CB8C-485C-8994-9BB0C2A5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D1CF-2D29-4BD7-A0C9-96AC58A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3C9C2-EE65-4FC4-B8D9-216AE56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9334A-2235-47DC-96B6-7B957D5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83485-DF6B-48C0-8ACD-E0EB76D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EFB96-5DC1-46AB-B7F7-59E854C3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E9714-11C9-4012-88DC-F8DBC9F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17FA4-DC0D-4831-8B30-A235463B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806F6-5C61-48FA-BF2B-D031A16C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0E7E9-DCCF-4C03-800D-789F1F8F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B2A4E-5659-46EC-A01C-7527A2C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55332-2476-4644-AC07-B169F42F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5A2F-9876-4C85-8C2A-53050EC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1BA00-A35F-457D-8A09-7F6AFDF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B36F4-6ADB-4E7E-BB68-DEB12E15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4DDE4-E977-41AB-88BD-FC548EA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1FF8D-59E4-4E44-8872-64E8AB7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D7183-B487-43A1-B421-F706FBB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15672-0091-4123-84B0-8340285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4407F-9D05-45D4-843C-1350117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00884-31B9-490B-ADA8-027B07FE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5C27B-BE42-4FE9-BC11-A2733F3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14ACA-669A-47F9-9A4B-75FB4BD4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934A-AC7F-4B66-9806-23289755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21E3B-7331-4D9F-ABB5-7C69FA2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4B2B0-039C-4F56-BF09-FB89CDB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77A2D-EDEF-4407-B9F6-4367F2B5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C1644-0B7E-4B83-A54E-FCB7990D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CF11F-512C-43A3-A2F4-071F69F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F4A91-318A-4FE9-8FF6-6BAC4D0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89432-D186-45B7-A75F-975EBB3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3FB66-0520-4FCE-997A-66E26CA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AAE61-BF0B-4A8B-8A5F-9D0BCE4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D3CF1-5624-43EE-9E50-08DC54C6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689F-0ABF-4C32-841B-DB756856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8125A-B03E-4107-A951-A6850E03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1AD4BE-18CB-4662-AD39-8EB0B52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841FE-53AC-4938-AF25-ADBF08F2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E5635-9E31-419A-A10A-4C51B8B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294D89-401B-4C77-94AA-3AE6392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8494B-DC91-49CA-9C44-56CA78EC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CE761-71E6-4B61-A9E6-4E52CC1C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A78E1-609C-4CC8-9209-61F0ED5C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794A4-6882-4759-9634-BC30DEE7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D1807-A256-49A0-B161-4DC84BF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3CB8-4181-47F8-A4A4-04433989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4DD38-B841-47C3-B9E0-78D8CA79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A9A6B4-6A44-4A88-A9B8-DE495D2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3E8B5-09FE-4950-A23F-98587F25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4405-A30C-458F-83C2-64DDA52E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352A-B38C-41F4-A3CD-605F1F7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6081-F53D-480C-B33C-D638469A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48BD-73F4-460B-8E4F-1208097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A7D-0A15-42BB-8844-B2DC7DC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438F-CA87-402A-8EDB-AFAFAC4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49F2-4C72-4219-B781-C82F14E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EECE-4756-414F-AAF9-665382A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E5C4-A33B-495F-880F-FFEF7B6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5C09-FC47-4B6D-BB96-8AB1E75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787E-0190-41A2-8F4A-72B6B88F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D1AD-8AB2-4B75-83E1-BF9222F8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BAB8-BBE1-45B3-97FA-3E989360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6280-3F32-418A-8E67-836F8A3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A0558-B0AA-43C0-A550-167AB3E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A7D-A952-4F06-A6E2-7F9534BC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7C4D-5407-4DC6-873A-76FB9063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A77D6-E486-432C-A975-B669E8C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9040-890E-487F-970E-6440CDF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B47E-04BA-4532-8CB8-6B61E0C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EFAC-B306-4227-90E1-2161A68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65E6-D9C9-4544-B250-ABEA031A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6E91-3A7A-4C61-A4F6-C5B6D43E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C8E5-5FFA-414B-8FCE-E016C519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D8FA-A606-4576-85F2-5AF69466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C50E-30F3-4853-A8A8-899D3EEE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272-4EDC-4F53-B91C-65BB253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83E8-24F5-4388-9668-BEB7D086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17D4-836F-427B-B7DC-C28405F4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42C4-A332-4CB9-8AEE-88C956C2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D6B6-21CC-4773-A3A0-B3D7C318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AA8F7-FF6D-4CDD-B7EE-6F2C770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0E671-9698-4AA6-92DD-17FF470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F386-E6F5-439F-850B-5D1CB123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154F4-FEC2-4F60-8972-5D97950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B076-C9EA-42D8-BDA7-30D546B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F870-BDD3-4C57-9E46-5FD09EAD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8E-3D89-4E88-B5EB-B1461397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636F-ED71-48DB-B6A5-7947A416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E1842-D493-41C1-8F4B-5CED44EB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E1FF2-CBE4-4459-A465-474EA06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A949D-65AB-46DE-BA1E-33C3FBB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4ED1-DA14-4E42-B937-FABC3814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B3D2-FB93-497C-A8A0-2DBAC85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A049B-BA1A-4BA5-820F-E36E380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0E604-D6D6-41E5-8061-DA54D0B2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DC00-5B09-48C7-B914-7B0AEDC6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A085-05F1-4A3C-9904-374DEEE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E60-EF43-4DCC-A504-5AF8749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FF13-9661-4783-BCEE-DDED6EE3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4A431-B4DB-478A-A773-54496A64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1988-A8F0-436A-B151-99447DEA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86FB-2CBD-4089-93EA-FF359FD7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28CA-2CF6-4E60-B377-C387548F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6D64A-6280-43FB-989E-0A3B05A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114A-6332-457C-AE61-822341A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B690-B491-4F44-945E-6084416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ADB7-C537-4F7B-8AB4-857ADB9D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C842-2423-47FF-9DCE-6668431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187-625C-42D5-8168-24CFB60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3FEC-E30D-4348-869A-B116D14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C606-5613-4637-9E9B-BCD59BD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AEA50-02B1-48FE-9B59-BF35910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751EE-6AED-4FF8-97D5-8BBA9EE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31B6-B966-4262-9FC5-8D794FC3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785F-D70F-41C9-BB38-B2D481D6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2BBE-1E5A-4EC2-8297-F94C119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62E2D-ACF3-4DDE-9801-97D128D7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F6130-42E4-497A-BA19-D9F92D2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7EC6-C1E3-4749-813A-B042D0F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6A9-7225-4CBB-9417-E91749E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AA5A-A614-48A3-B880-33734D4D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AF58-95D0-4468-BCCB-AFA6925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D8D07-2C32-4AED-BEDC-839D5FB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4C06A-FE5C-478A-8A23-B71EBF9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C3B7A-5901-4908-B72D-3A3AF39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B65C0-CFDB-4856-A753-78F6E8B1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19C4A-787A-45FC-84FB-B3387F35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30A12-0924-4358-BF6F-AA90BF24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20A2D-85EB-4365-B12A-74516BF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2A8F5-EB92-4BCE-8677-62B6BE1D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D62-5358-441B-BDB1-937D4E8423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46F-9728-48F1-81A2-0C2A44ED29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BD2C-64AA-46C9-83DD-4C559B7C5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701D-8C3E-4BD4-B939-6C9A305952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F7F-DB8C-475D-9680-122474572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A91C-5A9C-40C0-8524-3C0E5C95CE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506-04BF-4B0C-B82E-EEF465DEF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781C-FB14-48CC-8554-279D9F8BC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A52A-AD59-4B9B-98A1-68481DA00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563E-3FD0-4A1D-9150-D2443206C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6584-AC17-4267-9EE2-1E8BB1293A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B48-E89E-497C-9593-7669F9E5F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BDD-7053-4887-9887-B511A5A87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6A2-D5EC-4223-8CA4-89F397FB2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1CF-46D7-49B9-ABFE-E4124ACD7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DD17-E4A5-4D7F-8A56-09F37D52F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D9DB-3FD4-45D9-98F5-D858B58E6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019E-3F0F-4BD1-9A5A-EDBD6C2AD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4A5D-9D5D-4E20-9A0F-BA17A0823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43BD-730C-41A5-9527-E8BDD49C8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44E-211B-4D51-A291-638E78FD7B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07A-18A3-4B79-AF85-0A6405254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4F4E-9608-4FA7-93CB-A40BEEBC9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090-C0C5-4F3C-9DC4-EBD61AE2E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003D-ADE2-4EB3-92A2-DF5042474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B3C-D572-45A4-A9B9-28D721BFD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F5CC-F305-450E-817B-D38CBC567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28C1-8EDF-4C45-A1CD-EAF66A077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BBE3-F554-4FA1-979C-64A13D16E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2792-87A2-4A76-9791-255A80DB90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1F47-19F3-4493-8A53-F07C26AB5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4049-3FF1-45B4-846E-562B3A622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2448-172C-4183-B3DF-C03F40E01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AAD-99FF-4D9F-82A4-A406A1BA4E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7F5-2BDD-48AF-99A8-BC6DD0A04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E7A0-32EB-48F4-B93B-62DE4F712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06EC-FBCF-4942-9976-337FCDE983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7B4-05F8-4546-A866-FDD06908F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CC3B-A3BB-42EB-9CFF-D7B1D82A3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263E-B24C-49F6-8871-A36424AFD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90600" y="2738520"/>
            <a:ext cx="6562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876240"/>
            <a:ext cx="8858160" cy="5105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840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68360" y="3490920"/>
            <a:ext cx="684036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5535720"/>
            <a:ext cx="6840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42920" y="1047600"/>
            <a:ext cx="8858160" cy="47628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468360" y="2646360"/>
            <a:ext cx="29512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468360" y="5392800"/>
            <a:ext cx="2951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45:1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